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C89-0133-412A-A95A-B9B06A40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E53-F8C9-4D47-B988-A7F009EF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BE5-D46F-4C61-8C5E-BBEFD47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50E-D332-41F5-B0AE-E2CE36B1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A1D-593B-462D-B163-75A92796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4E9-8C8A-4E71-A819-300AF45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746-C894-42A5-94FE-8A9537B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D30-8CDE-4901-975F-C7650B03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5CA-F614-4C93-A380-F538AD3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543-1995-4B8B-B64E-14CA25B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6FA-0F12-4BE5-9DDE-54014B4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514-5B9C-455F-9F5A-2737732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DEC-4000-4234-8182-5391D2F3EE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259920"/>
            <a:ext cx="3382920" cy="405000"/>
          </a:xfrm>
          <a:prstGeom prst="rect">
            <a:avLst/>
          </a:prstGeom>
          <a:solidFill>
            <a:srgbClr val="99ff99"/>
          </a:solidFill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Guess who they 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2439720" cy="22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449440" cy="184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48000" y="4941720"/>
            <a:ext cx="1905120" cy="177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30364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708280"/>
            <a:ext cx="2665440" cy="155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140360" y="2708280"/>
            <a:ext cx="2011320" cy="168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877080" y="404640"/>
            <a:ext cx="1963800" cy="119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348000" y="907920"/>
            <a:ext cx="2087640" cy="145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877080" y="2133720"/>
            <a:ext cx="1485720" cy="19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95640" y="1916280"/>
            <a:ext cx="100800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W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240" y="907920"/>
            <a:ext cx="12078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63200" y="3860640"/>
            <a:ext cx="1436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Wil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48200" y="2800440"/>
            <a:ext cx="9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8880" y="3141720"/>
            <a:ext cx="1093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44280" y="3716280"/>
            <a:ext cx="176400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ha and Bala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1557360"/>
            <a:ext cx="18352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John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661000"/>
            <a:ext cx="739800" cy="916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and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95560" y="4653000"/>
            <a:ext cx="1639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Simp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66840" y="4365720"/>
            <a:ext cx="15508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and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148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9:31:57Z</dcterms:created>
  <dc:creator>Baudry</dc:creator>
  <dc:description/>
  <dc:language>en-US</dc:language>
  <cp:lastModifiedBy>ia78-cplv</cp:lastModifiedBy>
  <dcterms:modified xsi:type="dcterms:W3CDTF">2010-01-25T09:22:39Z</dcterms:modified>
  <cp:revision>5</cp:revision>
  <dc:subject/>
  <dc:title>Guess who they are</dc:title>
</cp:coreProperties>
</file>