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5BB2-1929-4ECC-ACBD-948FB4BA7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6BF8-C1E1-4F8E-9DAF-807C98E69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96B2-07F7-4A7F-8993-FA27265A6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65EA-7A0C-44AF-BE79-AA3F14EC4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EF5E-6412-4B44-B9B4-D25F914AC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C9A9-A52B-47F8-AC5A-EDEFF7AD8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E512-44E6-4C4F-B505-E00CC03BD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AED8-1FC7-49FB-9BD5-63874E918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1D14-A468-4C91-9D15-70792FBCF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86D1-B6AA-482F-9A1B-865DF7C64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A514-D8B6-4399-889C-8BBA13C43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09A1-58AF-4283-9B89-1DF90EB76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706C8-DE0D-4E03-8B4A-463844B7C9F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395280"/>
            <a:ext cx="856908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 Sherwood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32280" y="2735280"/>
            <a:ext cx="6148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284720"/>
            <a:ext cx="2406600" cy="32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201080" y="3882960"/>
            <a:ext cx="2592360" cy="367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35280" cy="404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56000" y="1332000"/>
            <a:ext cx="3240000" cy="486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128000" y="0"/>
            <a:ext cx="242892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16360" y="0"/>
            <a:ext cx="2322360" cy="320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1360" cy="341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924360"/>
            <a:ext cx="2897280" cy="333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4720" y="0"/>
            <a:ext cx="2808360" cy="38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40000" y="3708360"/>
            <a:ext cx="3384720" cy="361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056360" y="3952800"/>
            <a:ext cx="21607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11640" y="324000"/>
            <a:ext cx="2857320" cy="357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275616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0360" y="0"/>
            <a:ext cx="2016000" cy="398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696000" y="0"/>
            <a:ext cx="2016360" cy="403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47640" y="4006800"/>
            <a:ext cx="1656000" cy="3552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769080" y="4067280"/>
            <a:ext cx="2614680" cy="34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4:36:04Z</dcterms:created>
  <dc:creator>Corine LASON</dc:creator>
  <dc:description/>
  <dc:language>en-US</dc:language>
  <cp:lastModifiedBy> </cp:lastModifiedBy>
  <dcterms:modified xsi:type="dcterms:W3CDTF">2011-10-25T09:48:58Z</dcterms:modified>
  <cp:revision>18</cp:revision>
  <dc:subject/>
  <dc:title>Slide 1</dc:title>
</cp:coreProperties>
</file>