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625-E936-4E5C-8D2B-B094F86F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B37-D1A6-41C4-9342-BAFE9974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C3A-5434-4B10-A243-2A666DA0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D5A-6B7A-4E27-9E5D-CB9F24A0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3B2-DD37-4C59-968F-6DD1955A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7D4-DD48-4226-94A8-D157A9FA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9CC-A2EA-4FEB-8670-BCDDCB8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EC7-731C-498E-B496-70CD2097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E2B-3E28-4C51-9007-E5519DAF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7AB-8BDC-45BC-93F2-C5AD4D7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CA8-579C-461A-B8B4-869444E9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795-6B20-4E47-A03C-F6D70FE9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D8EFB7-B115-4342-BCC8-14917451B096}" type="slidenum"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Script MT Bold"/>
              </a:rPr>
              <a:t>This is my fami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08464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ole élémentaire Reine Astrid  CM1/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BERGEN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60840" cy="265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3860640"/>
            <a:ext cx="3660840" cy="270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56000" y="692280"/>
            <a:ext cx="21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28000" y="4653000"/>
            <a:ext cx="21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5805360"/>
            <a:ext cx="21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3552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656160" cy="270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3660840" cy="1806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03640" y="1989000"/>
            <a:ext cx="358776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549360"/>
            <a:ext cx="215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6237360"/>
            <a:ext cx="215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1557360"/>
            <a:ext cx="21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513240" cy="31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746440" cy="327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843280" y="4221000"/>
            <a:ext cx="3655800" cy="237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3284640"/>
            <a:ext cx="21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3213000"/>
            <a:ext cx="215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6237360"/>
            <a:ext cx="21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826080" cy="3289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56000" y="692280"/>
            <a:ext cx="216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6093000"/>
            <a:ext cx="215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6360" y="3213000"/>
            <a:ext cx="4224600" cy="329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4:47:55Z</dcterms:created>
  <dc:creator>OEM</dc:creator>
  <dc:description/>
  <dc:language>en-US</dc:language>
  <cp:lastModifiedBy> </cp:lastModifiedBy>
  <dcterms:modified xsi:type="dcterms:W3CDTF">2011-10-25T09:59:35Z</dcterms:modified>
  <cp:revision>4</cp:revision>
  <dc:subject/>
  <dc:title>Who is this?</dc:title>
</cp:coreProperties>
</file>