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1BB5C-13FA-431A-8D94-ED9DFCE6B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D96-40BD-4783-82DD-F59BE9AF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E72-2252-4D98-96E6-3646B7F0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685-283A-4CB1-BEFE-0B154889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B0A-71DC-4AF9-8013-1D8988E5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46F-9663-434C-82E7-09A5664C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273-E95D-4820-9271-882D5A2C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F39-DD75-4B09-8116-F009A99E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F48-A155-4FE3-B9FA-064A045D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C60-4B2E-44D1-9E6B-383E64D6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BE4-1DB2-4930-87DD-CE37D84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67C-0858-4EB7-8709-990B3B17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875-D96A-447D-96CE-E13D848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4483E-FD3E-497B-B737-6B11BBC5F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3780000" cy="306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40360" y="179280"/>
            <a:ext cx="57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9280" y="3419640"/>
            <a:ext cx="3240360" cy="399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40360" y="4284720"/>
            <a:ext cx="43196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65160"/>
            <a:ext cx="3173400" cy="317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56160" y="179280"/>
            <a:ext cx="444348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41120" y="3240000"/>
            <a:ext cx="4719960" cy="422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005440" y="3240000"/>
            <a:ext cx="489420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20000" y="1279440"/>
            <a:ext cx="3056040" cy="430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080" y="2060640"/>
            <a:ext cx="5019480" cy="297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9:00:36Z</dcterms:created>
  <dc:creator/>
  <dc:description/>
  <dc:language>en-US</dc:language>
  <cp:lastModifiedBy/>
  <dcterms:modified xsi:type="dcterms:W3CDTF">2010-02-03T09:27:43Z</dcterms:modified>
  <cp:revision>3</cp:revision>
  <dc:subject/>
  <dc:title/>
</cp:coreProperties>
</file>