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12.gif" ContentType="image/gif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69B-FB7E-4BF1-92BB-1D019650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6E8-7DE7-4926-9580-44D78E62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DA3-2DA2-47CC-9AFA-9267C103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0A9-0432-411A-8F09-D35CD2EA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3FB-7690-48F8-B7DE-F414A27E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DCF-EA4E-488F-95CB-4E96778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0D6-09E9-4277-9CD8-908851D0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CA8-AB3B-446B-AA43-B92443BD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3EF-6B6D-4C81-8F0E-EC6E9C7D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AF2-8651-45BE-87D6-340AC33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348-3356-4A3C-9F03-9BFEA57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9F5-7C0E-4FCC-9776-9606FF3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155-3FC3-4CD7-8A26-3FB76D84257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bcd.unblog.fr/files/2009/11/pizza.gi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6.jpe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2.gif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image" Target="../media/image13.jpeg"/><Relationship Id="rId22" Type="http://schemas.openxmlformats.org/officeDocument/2006/relationships/image" Target="../media/image14.jpeg"/><Relationship Id="rId23" Type="http://schemas.openxmlformats.org/officeDocument/2006/relationships/image" Target="../media/image14.jpeg"/><Relationship Id="rId24" Type="http://schemas.openxmlformats.org/officeDocument/2006/relationships/image" Target="../media/image13.jpe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26920" y="620640"/>
          <a:ext cx="7561440" cy="5760720"/>
        </p:xfrm>
        <a:graphic>
          <a:graphicData uri="http://schemas.openxmlformats.org/drawingml/2006/table">
            <a:tbl>
              <a:tblPr/>
              <a:tblGrid>
                <a:gridCol w="2520360"/>
                <a:gridCol w="2520360"/>
                <a:gridCol w="2520720"/>
              </a:tblGrid>
              <a:tr h="295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" descr="Hamburger Clip Art"/>
          <p:cNvPicPr/>
          <p:nvPr/>
        </p:nvPicPr>
        <p:blipFill>
          <a:blip r:embed="rId1"/>
          <a:stretch/>
        </p:blipFill>
        <p:spPr>
          <a:xfrm>
            <a:off x="1476360" y="249228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pizza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55736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Hamburger Clip Art"/>
          <p:cNvPicPr/>
          <p:nvPr/>
        </p:nvPicPr>
        <p:blipFill>
          <a:blip r:embed="rId4"/>
          <a:stretch/>
        </p:blipFill>
        <p:spPr>
          <a:xfrm>
            <a:off x="3419640" y="414972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643280" y="4221000"/>
            <a:ext cx="1079640" cy="80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084720" y="5013360"/>
            <a:ext cx="81144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084720" y="1413000"/>
            <a:ext cx="625680" cy="86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164360" y="981000"/>
            <a:ext cx="90648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476360" y="5445000"/>
            <a:ext cx="1008000" cy="80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012000" y="2421000"/>
            <a:ext cx="1224000" cy="97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236000" y="4653000"/>
            <a:ext cx="847440" cy="107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971640" y="4508640"/>
            <a:ext cx="912600" cy="93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4067280" y="5300640"/>
            <a:ext cx="909360" cy="93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835280" y="4221000"/>
            <a:ext cx="1368360" cy="95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300720" y="3860640"/>
            <a:ext cx="1295640" cy="90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4140360" y="2492280"/>
            <a:ext cx="10476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3564000" y="1557360"/>
            <a:ext cx="627120" cy="86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716360" y="836640"/>
            <a:ext cx="897120" cy="93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8520" y="62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7812000" y="2852640"/>
            <a:ext cx="393840" cy="64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5292720" y="2997360"/>
            <a:ext cx="536760" cy="53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5435640" y="5734080"/>
            <a:ext cx="349200" cy="57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7667640" y="5805360"/>
            <a:ext cx="536400" cy="534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2771640" y="2924280"/>
            <a:ext cx="536760" cy="534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2916360" y="5734080"/>
            <a:ext cx="349200" cy="57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900000" y="1052640"/>
            <a:ext cx="868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0:38:30Z</dcterms:created>
  <dc:creator>seb</dc:creator>
  <dc:description/>
  <dc:language>en-US</dc:language>
  <cp:lastModifiedBy> </cp:lastModifiedBy>
  <dcterms:modified xsi:type="dcterms:W3CDTF">2012-05-09T17:43:01Z</dcterms:modified>
  <cp:revision>7</cp:revision>
  <dc:subject/>
  <dc:title>Diapositive 1</dc:title>
</cp:coreProperties>
</file>