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14.jpeg" ContentType="image/jpeg"/>
  <Override PartName="/ppt/media/image5.gif" ContentType="image/gif"/>
  <Override PartName="/ppt/media/image9.png" ContentType="image/pn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D6A4-2DBC-4004-AFAF-2C39561C4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DF76-262B-4030-A298-72F90CD1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D3A8-14D5-4FA9-A939-ACACBC8F3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B2FD-C108-4B38-A3DB-09EA82E72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1745-6346-4B42-A6EC-502FA01D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484E-A23F-4CFE-B8A4-E0913172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F1AA-FF16-4639-A52A-34E62BE2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8F34-2858-4FC9-BF20-E25A4F5A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ABAA-1832-4B96-AF17-80364369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CAF6-64B3-4ADE-8CDA-9870C6D8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FEB0-2F21-4870-8F53-8C8121A9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C4A4-3E3F-463F-8C6A-A267B9B2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0ACF-FCE3-41DB-B9BB-87013CACE77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hyperlink" Target="http://hbcd.unblog.fr/files/2009/11/pizza.gif" TargetMode="External"/><Relationship Id="rId17" Type="http://schemas.openxmlformats.org/officeDocument/2006/relationships/image" Target="../media/image16.png"/><Relationship Id="rId1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905120" cy="12762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77080" y="260280"/>
            <a:ext cx="1549440" cy="1351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95280" y="3500280"/>
            <a:ext cx="1295280" cy="1035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68360" y="2060640"/>
            <a:ext cx="911160" cy="936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32360" y="260280"/>
            <a:ext cx="1033560" cy="1079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2556000" y="5013360"/>
            <a:ext cx="887400" cy="1224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4643280" y="1700280"/>
            <a:ext cx="1440000" cy="1257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6948360" y="2060640"/>
            <a:ext cx="1440000" cy="1079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4427640" y="3573360"/>
            <a:ext cx="1439640" cy="1001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611280" y="4941720"/>
            <a:ext cx="799920" cy="1295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2050920" y="1700280"/>
            <a:ext cx="1617840" cy="1311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2916360" y="404640"/>
            <a:ext cx="1079280" cy="801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7308720" y="3573360"/>
            <a:ext cx="811440" cy="100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2556000" y="3357720"/>
            <a:ext cx="960480" cy="1223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Hamburger Clip Art"/>
          <p:cNvPicPr/>
          <p:nvPr/>
        </p:nvPicPr>
        <p:blipFill>
          <a:blip r:embed="rId15"/>
          <a:stretch/>
        </p:blipFill>
        <p:spPr>
          <a:xfrm>
            <a:off x="4716360" y="5229360"/>
            <a:ext cx="1009800" cy="874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pizza.gif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732720" y="5516640"/>
            <a:ext cx="142848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6T17:35:56Z</dcterms:created>
  <dc:creator>seb</dc:creator>
  <dc:description/>
  <dc:language>en-US</dc:language>
  <cp:lastModifiedBy> </cp:lastModifiedBy>
  <dcterms:modified xsi:type="dcterms:W3CDTF">2012-05-09T17:42:11Z</dcterms:modified>
  <cp:revision>2</cp:revision>
  <dc:subject/>
  <dc:title>Diapositive 1</dc:title>
</cp:coreProperties>
</file>